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D74-9B73-4AD8-9A70-E3323667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1A6-B435-4E19-A6E5-2DBDA477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3AC-835F-4D62-A77D-5BF3C3FE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C66-03BC-4176-84A0-E3316BB8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1A46-5E64-482F-A7CA-ABE4252F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7C7-B115-4DCB-9CBA-789B6D4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603-9BED-4055-A574-22DD3753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953-0DF9-426E-88E1-869B9119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5F3E-5E0A-4C83-8F7F-9C4AEE8D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4502-EA2C-46C6-A802-FD32D84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EEA3-2330-4F77-A4EB-C31701B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595-1171-46D8-80B1-5A9412FC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C08C-6AC4-415E-943A-BA4A944D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2C23-B1DB-4E45-B5FC-CCDFEE8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2ACB-0B21-4B92-98E6-FF9A8A9B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01E3-7964-4082-ACFA-AFFB431C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A56A-7847-48A1-894D-B2F38F79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13D0-01CC-4D40-87B9-98F8F32A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A6D5-A297-48B2-8C56-F47EB4C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35D0-4F52-45AA-A025-16FC234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981D-7263-4E66-A397-4D7CAE3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896D-E533-42A3-A0C1-2F6DD169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2CF-A544-4B9F-9EAE-F5D766CD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3A2F-A6EC-4D99-90BD-A9BAF62A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1C42-75A3-420C-9CB0-31BAF62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635B-54CD-43DA-A9CD-C88CA63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79AA-A2EA-4B5C-99C7-2112823F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37D8-EAA3-4AB9-80CE-54744355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FE4E-1E75-42BC-B168-504BB46B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5D70-C7BC-4A2C-B47D-7469C5EF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59B2-5BD2-4695-861E-271338F4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3BD0-DD03-4076-9399-9131810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4D96-D19C-4612-A516-9CAACC3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228-F6B7-43EC-B822-670B6BC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69DF-A891-43FD-9BAA-A292A99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04F9-DBF6-41C0-A5DE-86599A2D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5051D-44AC-4CC9-84F1-7D92F2F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8F9A3-2499-4110-A51E-9A9A52B9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69B4-88A0-4A70-ACC1-2E3A5BA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1D7F7-9B5E-4DA9-8653-855D8BC8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DA9E-B884-4A00-AB57-7193DC1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CDA1-18E8-4374-BDFA-ADF5FF44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D5C05-6971-4809-A77C-4AA6401A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EA13-4C95-41F3-AD70-0AF42F41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522-96B7-4734-9478-8ADC4E56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E082E-BCB0-4CA1-8A63-401C72F5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4D22-0686-4FB8-8888-F0974ED9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8581F-A587-4AB4-9698-8F79B6C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E2BD6-0C28-4FEE-B837-69D8A77F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A2DAD-B92B-4467-934A-7B1360A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225D-B5E2-4D91-8B14-1045187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597D9-A5E2-4754-B4B8-FD98341C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1B99-ED35-437C-A6A7-911825A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BE3F-521F-433B-A290-15B87D4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9780-5832-485E-8095-8F05CF50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31C-4A16-40D4-B430-0117E252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4510-B8AC-486C-B40C-EB1B11AD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455B6-D429-43A8-BEDC-E1D8C95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4D243-1549-428B-8ED4-5C1DCF1D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FFC36-0B7B-4889-BD16-1DBD76A3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6919-5420-43E1-B77F-6B27E1AD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EA4A2-E30F-4185-92F5-448B3A37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0226F-071C-40D5-8748-797D936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0655-DF45-4BB3-9E8F-686D25B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0E33-FE6D-4259-8D2D-DB398C5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7DD1E-BF6B-418D-B602-4337D98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AF8-FB36-47FB-ADE4-618F79B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0762-A71E-453C-B32B-16DA60DA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E7F17-FD14-4B47-BFD6-23BCC9D2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1520-B457-4D9D-910C-26D567E4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4FE7-4124-4174-96B9-F9E68844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112D0-8443-45D5-B5DB-BEE8CFC2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A40B-1614-470B-87C6-BAACA476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1256-FC5B-437B-ACAF-8A9CB67F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1A0D4-788F-41D1-8956-65A8D79B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031B6-D151-46D2-A9EB-1133CB88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68F28-3527-4733-8DEA-B7816DD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596-3A16-4914-A020-A2F143A3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DD298-DFC8-418E-A589-6FCB11E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F6A73-D8F0-4A1A-9EC3-E229A8A4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04E00-D18E-4861-B97B-C1BC1BD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5249-F7B2-4C8C-9BCF-7EB2DB33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B2477-6621-4670-BCE0-EE5EC3BB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6C21-275F-4021-B795-D9F51A3F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A7D10-3FC2-42F8-BEBE-4CC526EC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C462D-8D77-41ED-AE48-7B01346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56642-5427-495A-8F16-028B67B6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575C-2174-480C-BE0A-BAB6A77B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B69-79EF-49A9-A34D-7017B8B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738CD-509D-44FF-A7B7-0FE02D74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0B6EF-9126-4581-973F-283E82D7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155DF-2563-4CFE-A608-108E04C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420B1-FCAD-4533-92C3-51A8CB1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446C0-2E1D-461D-86F5-E1E4DA36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340EA-B0FF-4E0D-A748-7B0207A6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4BD70-6578-4275-A8D1-2652A042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C21C-3477-429E-88AC-B6E61DF22CF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E9D1-007A-4711-A5FD-AD07578D9D59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EC1-5A66-4DCE-96FA-0AA771EA65D4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F69-E6E6-4878-A576-9F3A44E310B1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EDF-2E42-4EA6-A842-99E751A9098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2AA9-D806-4116-A999-1251C9A720B4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96E-16CA-4E67-A9EE-F6F832BFDB88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432C-AA14-4BE4-B72B-D3F89512D7E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F48-2350-4222-9635-F05EAC571C4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84C9-216A-4F6D-A54E-A0C4BF418FBE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E735-43ED-49D4-80C3-1C71B72DF594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579F-8E96-4E06-ABD4-7047B7E919D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36F4-5DDF-4661-85FA-ECC9A0F23F5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7FC8-E761-48FA-8ABD-4219FC110BF2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DC26-D69C-44D1-ACCA-D651A8CD0F9D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6A82-8E43-4DD3-B712-4DE66B3DDBDB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nit 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615-5631-412F-8214-924556CEC593}" type="slidenum">
              <a:rPr b="0" lang="en-C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3049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56D9-8DB1-471C-9056-A5E1CA0CFC77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1813-DF98-4201-84F8-F6AB5CE78C86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8827-248A-41D8-826E-BCCE4D95408C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123-30B3-495D-9C89-787FF33C91C0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7D6-94D2-476F-B3DF-378AEC75212B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6BC-8A0B-4C2A-8AA2-5E2145B9EE82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9429-99BA-4DC6-B88C-D8842507F9BB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2212-C952-43F5-BA96-DFBCA942A9D6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FAAA-3643-41E4-B4A3-B4CE45DD9F90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1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A2B5-17EF-4BA3-864E-EE2F1C093E12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 government’s basic task is to make a set of laws to allow people in a society to live together in peace and security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 government also makes sure laws are obeyed and sets up punishments or penalties that protect the interests of the people as a whole against the greed or ambition of any one person or any one grou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F22-EB6C-4CCC-92E0-8B532A83B795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7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39A1-FBF2-45B5-BD62-C666564533A9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96F5-CE7A-40EB-9FC6-42CD7B58195F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05B-BB33-4ABB-AA3A-7B440E75BDCD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EE34-5D26-4756-A04F-19CE934B3152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602-D458-4034-9873-53DF13AAAF1E}" type="slidenum">
              <a:rPr b="0" lang="en-C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re are many different kinds of governments but they all carry out three main tasks or function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1)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legislati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2)executive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judicial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A3C-FD78-4408-BD9F-A0789F3D9385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legislative function is the making of laws or the passing of legislation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F1A-4DFB-46E7-9DBA-87C9CB057E3E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executive function is putting the laws into effect on a daily basi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ACD6-8F9A-4306-9303-520E14BF2DAC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 judicial function is to decide if an individual has broken society’s laws and to punish the guil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7AC-1AE6-4A75-AC4C-F4517BC60FC4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762120" y="5261040"/>
            <a:ext cx="7772400" cy="14684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Our Parliamentary Government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B2FD-1194-4060-878D-2362C8919CE4}" type="slidenum">
              <a:rPr b="0" lang="en-CA" sz="1000" spc="-1" strike="noStrike">
                <a:solidFill>
                  <a:srgbClr val="ffffff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4"/>
          <p:cNvSpPr/>
          <p:nvPr/>
        </p:nvSpPr>
        <p:spPr>
          <a:xfrm>
            <a:off x="1143000" y="2209680"/>
            <a:ext cx="114300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3049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903A-5F26-43E0-AD2B-DFC02E1A6724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7:11:57Z</dcterms:created>
  <dc:creator>ladmin</dc:creator>
  <dc:description/>
  <dc:language>en-US</dc:language>
  <cp:lastModifiedBy>Terry, Sean J. (ASD-E)</cp:lastModifiedBy>
  <cp:lastPrinted>2018-01-16T14:53:13Z</cp:lastPrinted>
  <dcterms:modified xsi:type="dcterms:W3CDTF">2018-01-16T16:01:53Z</dcterms:modified>
  <cp:revision>47</cp:revision>
  <dc:subject/>
  <dc:title>Types of Government</dc:title>
</cp:coreProperties>
</file>